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0E03-D635-4C9A-A3D4-CAE7C99D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A10-D3C0-48E5-8BFE-A638D626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4445-DD55-419D-BAA3-B9E68FF3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6B0-CB52-46D1-B960-6F97218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800-47AD-420A-BEC8-9B21B2D0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528-789F-4216-BA1B-CD1BA48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CC6-2797-415D-99CA-5D5E7E0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E8EA-6CD2-427B-B4DC-54EDA2F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0957-86EB-4836-96EC-7776DCC4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73D-29DE-488E-AE03-6E6906D3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7CFE-E7E7-42BA-B934-78DDB58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2BA-48A0-403E-93DB-978A2AF7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A424-6F7A-43C6-B316-C5D4DF2F6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ng Linear Equ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3 solutions for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near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ind solutions for linear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is easy… Pick three inputs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I always use 1,2,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n put the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values you chose into the equation and see what you get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ts try one toge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d 3 solutions for 4x + y =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write in function form: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= 4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k three values for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1,2 and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1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2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4(3)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477120" y="1600200"/>
          <a:ext cx="2200320" cy="2590920"/>
        </p:xfrm>
        <a:graphic>
          <a:graphicData uri="http://schemas.openxmlformats.org/drawingml/2006/table">
            <a:tbl>
              <a:tblPr/>
              <a:tblGrid>
                <a:gridCol w="1133280"/>
                <a:gridCol w="10670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26"/>
          <p:cNvSpPr/>
          <p:nvPr/>
        </p:nvSpPr>
        <p:spPr>
          <a:xfrm>
            <a:off x="7924680" y="2286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27"/>
          <p:cNvSpPr/>
          <p:nvPr/>
        </p:nvSpPr>
        <p:spPr>
          <a:xfrm>
            <a:off x="7808040" y="2971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7760520" y="35812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847080" y="350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30"/>
          <p:cNvSpPr/>
          <p:nvPr/>
        </p:nvSpPr>
        <p:spPr>
          <a:xfrm>
            <a:off x="797760" y="3962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750240" y="44956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3 solutions for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3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77120" y="1600200"/>
          <a:ext cx="2209680" cy="2895480"/>
        </p:xfrm>
        <a:graphic>
          <a:graphicData uri="http://schemas.openxmlformats.org/drawingml/2006/table">
            <a:tbl>
              <a:tblPr/>
              <a:tblGrid>
                <a:gridCol w="1137960"/>
                <a:gridCol w="1071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3 solutions for: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172200" y="1600200"/>
          <a:ext cx="2057400" cy="2590920"/>
        </p:xfrm>
        <a:graphic>
          <a:graphicData uri="http://schemas.openxmlformats.org/drawingml/2006/table">
            <a:tbl>
              <a:tblPr/>
              <a:tblGrid>
                <a:gridCol w="1060560"/>
                <a:gridCol w="99684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etermine whether an ordered pair is a solution of a linear equation, plug in the corresponding values and see if the statement 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and equation is in function form, then you can make up three values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nd solve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near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and B are not both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 of an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olution of an equation is an ordered pair that makes the statement tr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)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     try            (-3,7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2(-3) + 7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 rot="5400000">
            <a:off x="5045760" y="2497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841360" y="342900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1,2) a solution for x + 2y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1143000" y="5715000"/>
            <a:ext cx="66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 (1,2) is a solution because 5=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4076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7,-3) a solution f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04000" y="5715000"/>
            <a:ext cx="354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because 1 ≠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-3,7) a solution for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46480" y="5511960"/>
            <a:ext cx="359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! Because 1 = 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(-2,8) a solution for 2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– 4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511360" y="5435640"/>
            <a:ext cx="37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! Because 24 ≠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116720" y="1219320"/>
            <a:ext cx="11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t (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x,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equation in function 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write the equation so that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lone on one side of th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009880" y="3149640"/>
            <a:ext cx="288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) -2x + y = -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669400" y="365760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+2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193280" y="3657600"/>
            <a:ext cx="86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+2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82640" y="4521240"/>
            <a:ext cx="18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Y = 2x -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is equation in func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834640" y="266688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x + 3y = 1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6:28:29Z</dcterms:created>
  <dc:creator>JRatliff</dc:creator>
  <dc:description/>
  <dc:language>en-US</dc:language>
  <cp:lastModifiedBy>CABELL BOE</cp:lastModifiedBy>
  <dcterms:modified xsi:type="dcterms:W3CDTF">2009-08-11T17:24:28Z</dcterms:modified>
  <cp:revision>5</cp:revision>
  <dc:subject/>
  <dc:title>Graphing Linear Equations</dc:title>
</cp:coreProperties>
</file>